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082-7A7D-4F9B-904B-7DA1CCD0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832-38DF-443C-9151-C548B890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8AB-8CE4-445B-9E1D-A280F239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DB7-3353-4D3F-8F12-770AF8B3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7BE-B010-47DC-ADF9-5E42143C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26C-34CF-4C21-9FF6-ADB0C9F7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112-804B-4592-9A13-DA3DE822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E47-C989-4BF1-8746-A9042018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738-CD22-4A09-8B6F-82C60A50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42E-2246-48E0-8FC3-E67D2905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792-651E-4FDE-A107-11DD4CB3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435-054C-4658-A6D5-37FA82F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3B3E-2EED-4979-ACC0-8A721D7F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chnical Aspects Test (3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341360"/>
            <a:ext cx="8064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me the main 5 components of mise-en-scen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is low key lighting (1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fine the following shots (8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t-reverse-s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ing s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is cross cutting (1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is match on action (1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is an eyeline match (1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editing technique might 4 and 5 be a part of? Define it 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me and define 3 editing transitions (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me and define 4 editing effects (4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fine the following sound key terms (4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mph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so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colour red might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ymbolis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danger”. Give 2 words that you could use instead of symbolise (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sible AS Exam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the question below, with detailed references to specific examples from the extract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 the ways in which the extract constructs the representation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ing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era shots, angles, movement and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e en sc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555920"/>
            <a:ext cx="8642160" cy="475272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89640" y="2181240"/>
            <a:ext cx="17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1160" y="400536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78880" y="32130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ymbol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2440" y="479736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bv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33560" y="198900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ere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07080" y="285264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che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17880" y="479736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ock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4520" y="551664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r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9680" y="134136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760" y="40464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t-femi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6400" y="616572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t-mo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9040" y="616572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tag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79840" y="476280"/>
            <a:ext cx="21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ag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560" y="3213000"/>
            <a:ext cx="15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38520" y="148428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lti-fac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9640" y="4076640"/>
            <a:ext cx="40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triarchal/matriarc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00280" y="11592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us/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4040" y="465300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rt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3320" y="23493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bserv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25920" y="5589720"/>
            <a:ext cx="44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ssionate/dispassi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34040" y="119700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66040" y="9810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71680" y="2637000"/>
            <a:ext cx="22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28240" y="3429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1400" y="270828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10960" y="7650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y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920" y="607860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anti)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17480" y="357336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in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1: Mise-en-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2: Cinema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3: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4: E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bout the first 45 seconds in chronologica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3:53:05Z</dcterms:created>
  <dc:creator>maninder singh</dc:creator>
  <dc:description/>
  <dc:language>en-US</dc:language>
  <cp:lastModifiedBy>maninder singh</cp:lastModifiedBy>
  <dcterms:modified xsi:type="dcterms:W3CDTF">2010-12-02T14:06:17Z</dcterms:modified>
  <cp:revision>2</cp:revision>
  <dc:subject/>
  <dc:title>Technical Aspects Test</dc:title>
</cp:coreProperties>
</file>